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2AF-FEC1-4BC4-971C-ADA2BE6E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80D-F0D6-482F-83E0-AA0288C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4BA-AAA2-484C-A5CC-5191F09C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FD9-32C3-4F9A-8212-785B023B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EBB-63D8-4E82-9BC2-39D0BE6A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142-3C17-4646-913E-31361584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4A6-9210-4A76-89A9-2E643726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176-3E0C-4BF1-A3F2-86DB0BB5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081-AFB8-43C8-B96D-40EEB2E1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110-425F-41A5-80F2-A7EF697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4AF-0DCC-4139-B326-78ACBDA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225-4428-4320-B384-D8F1BD0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3335-B026-4A53-912B-AA063FE2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1482" t="2052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Ride the New 25-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Mountain Bike Tr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Veterans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914400"/>
            <a:ext cx="7391520" cy="24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dwardian Script ITC"/>
              </a:rPr>
              <a:t>i Come Play in the Dirt!</a:t>
            </a:r>
            <a:endParaRPr b="1" lang="en-US" sz="60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3048120" cy="236196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33cc33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900000">
            <a:off x="381600" y="396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Open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6280" y="43797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391520" y="5181480"/>
            <a:ext cx="1218960" cy="13716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304">
                <a:moveTo>
                  <a:pt x="0" y="0"/>
                </a:moveTo>
                <a:lnTo>
                  <a:pt x="21600" y="0"/>
                </a:lnTo>
                <a:lnTo>
                  <a:pt x="21600" y="24304"/>
                </a:lnTo>
                <a:lnTo>
                  <a:pt x="0" y="24304"/>
                </a:lnTo>
                <a:close/>
              </a:path>
              <a:path fill="lightenLess" w="21600" h="243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4">
                <a:moveTo>
                  <a:pt x="21600" y="0"/>
                </a:moveTo>
                <a:lnTo>
                  <a:pt x="21600" y="24304"/>
                </a:lnTo>
                <a:lnTo>
                  <a:pt x="20200" y="22904"/>
                </a:lnTo>
                <a:lnTo>
                  <a:pt x="20200" y="1400"/>
                </a:lnTo>
                <a:close/>
              </a:path>
              <a:path fill="darkenLess" w="21600" h="24304">
                <a:moveTo>
                  <a:pt x="21600" y="24304"/>
                </a:moveTo>
                <a:lnTo>
                  <a:pt x="0" y="24304"/>
                </a:lnTo>
                <a:lnTo>
                  <a:pt x="1400" y="22904"/>
                </a:lnTo>
                <a:lnTo>
                  <a:pt x="20200" y="22904"/>
                </a:lnTo>
                <a:close/>
              </a:path>
              <a:path fill="lighten" w="21600" h="24304">
                <a:moveTo>
                  <a:pt x="0" y="243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4"/>
                </a:lnTo>
                <a:close/>
              </a:path>
              <a:path fill="darken" w="21600" h="24304">
                <a:moveTo>
                  <a:pt x="3794" y="5146"/>
                </a:moveTo>
                <a:lnTo>
                  <a:pt x="17806" y="12152"/>
                </a:lnTo>
                <a:lnTo>
                  <a:pt x="3794" y="19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391520" y="5181480"/>
            <a:ext cx="1218960" cy="1371600"/>
          </a:xfrm>
          <a:custGeom>
            <a:avLst/>
            <a:gdLst>
              <a:gd name="textAreaLeft" fmla="*/ 110880 w 1218960"/>
              <a:gd name="textAreaRight" fmla="*/ 1108080 w 1218960"/>
              <a:gd name="textAreaTop" fmla="*/ 110880 h 1371600"/>
              <a:gd name="textAreaBottom" fmla="*/ 1260720 h 1371600"/>
            </a:gdLst>
            <a:ahLst/>
            <a:rect l="textAreaLeft" t="textAreaTop" r="textAreaRight" b="textAreaBottom"/>
            <a:pathLst>
              <a:path w="21600" h="24304">
                <a:moveTo>
                  <a:pt x="0" y="0"/>
                </a:moveTo>
                <a:lnTo>
                  <a:pt x="21600" y="0"/>
                </a:lnTo>
                <a:lnTo>
                  <a:pt x="21600" y="24304"/>
                </a:lnTo>
                <a:lnTo>
                  <a:pt x="0" y="24304"/>
                </a:lnTo>
                <a:close/>
              </a:path>
              <a:path fill="lightenLess" w="21600" h="24304">
                <a:moveTo>
                  <a:pt x="0" y="0"/>
                </a:moveTo>
                <a:lnTo>
                  <a:pt x="21600" y="0"/>
                </a:lnTo>
                <a:lnTo>
                  <a:pt x="19631" y="1969"/>
                </a:lnTo>
                <a:lnTo>
                  <a:pt x="1969" y="1969"/>
                </a:lnTo>
                <a:close/>
              </a:path>
              <a:path fill="darken" w="21600" h="24304">
                <a:moveTo>
                  <a:pt x="21600" y="0"/>
                </a:moveTo>
                <a:lnTo>
                  <a:pt x="21600" y="24304"/>
                </a:lnTo>
                <a:lnTo>
                  <a:pt x="19631" y="22335"/>
                </a:lnTo>
                <a:lnTo>
                  <a:pt x="19631" y="1969"/>
                </a:lnTo>
                <a:close/>
              </a:path>
              <a:path fill="darkenLess" w="21600" h="24304">
                <a:moveTo>
                  <a:pt x="21600" y="24304"/>
                </a:moveTo>
                <a:lnTo>
                  <a:pt x="0" y="24304"/>
                </a:lnTo>
                <a:lnTo>
                  <a:pt x="1969" y="22335"/>
                </a:lnTo>
                <a:lnTo>
                  <a:pt x="19631" y="22335"/>
                </a:lnTo>
                <a:close/>
              </a:path>
              <a:path fill="lighten" w="21600" h="24304">
                <a:moveTo>
                  <a:pt x="0" y="24304"/>
                </a:moveTo>
                <a:lnTo>
                  <a:pt x="0" y="0"/>
                </a:lnTo>
                <a:lnTo>
                  <a:pt x="1969" y="1969"/>
                </a:lnTo>
                <a:lnTo>
                  <a:pt x="1969" y="22335"/>
                </a:lnTo>
                <a:close/>
              </a:path>
              <a:path fill="darken" w="21600" h="24304">
                <a:moveTo>
                  <a:pt x="4218" y="5570"/>
                </a:moveTo>
                <a:lnTo>
                  <a:pt x="17382" y="12152"/>
                </a:lnTo>
                <a:lnTo>
                  <a:pt x="4218" y="187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324000"/>
            <a:ext cx="653436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tally Rad Dude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0095800">
            <a:off x="0" y="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0"/>
            <a:ext cx="2286000" cy="19051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828800"/>
            <a:ext cx="1752480" cy="1066680"/>
          </a:xfrm>
          <a:prstGeom prst="wedgeEllipseCallout">
            <a:avLst>
              <a:gd name="adj1" fmla="val 70291"/>
              <a:gd name="adj2" fmla="val 87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1905120"/>
            <a:ext cx="2133720" cy="838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905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Thi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Ridiculou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93160" y="20574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No it’s n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38080" y="510552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5142"/>
                </a:moveTo>
                <a:lnTo>
                  <a:pt x="17806" y="12148"/>
                </a:lnTo>
                <a:lnTo>
                  <a:pt x="3794" y="19155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114800" y="548640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5142"/>
                </a:moveTo>
                <a:lnTo>
                  <a:pt x="17806" y="12148"/>
                </a:lnTo>
                <a:lnTo>
                  <a:pt x="3794" y="19155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33520"/>
            <a:ext cx="2667240" cy="2590560"/>
          </a:xfrm>
          <a:prstGeom prst="star5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Std"/>
              </a:rPr>
              <a:t>Ama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Std"/>
              </a:rPr>
              <a:t>View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00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217" t="0" r="0" b="2317"/>
          <a:stretch/>
        </p:blipFill>
        <p:spPr>
          <a:xfrm>
            <a:off x="1371600" y="8380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V="1">
            <a:off x="990720" y="304560"/>
            <a:ext cx="2057400" cy="2438280"/>
          </a:xfrm>
          <a:prstGeom prst="line">
            <a:avLst/>
          </a:prstGeom>
          <a:ln w="1936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48520" y="3809880"/>
            <a:ext cx="2361960" cy="2438640"/>
          </a:xfrm>
          <a:prstGeom prst="line">
            <a:avLst/>
          </a:prstGeom>
          <a:ln w="181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304920" y="5257800"/>
            <a:ext cx="1218960" cy="13716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304">
                <a:moveTo>
                  <a:pt x="0" y="0"/>
                </a:moveTo>
                <a:lnTo>
                  <a:pt x="21600" y="0"/>
                </a:lnTo>
                <a:lnTo>
                  <a:pt x="21600" y="24304"/>
                </a:lnTo>
                <a:lnTo>
                  <a:pt x="0" y="24304"/>
                </a:lnTo>
                <a:close/>
              </a:path>
              <a:path fill="lightenLess" w="21600" h="243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4">
                <a:moveTo>
                  <a:pt x="21600" y="0"/>
                </a:moveTo>
                <a:lnTo>
                  <a:pt x="21600" y="24304"/>
                </a:lnTo>
                <a:lnTo>
                  <a:pt x="20200" y="22904"/>
                </a:lnTo>
                <a:lnTo>
                  <a:pt x="20200" y="1400"/>
                </a:lnTo>
                <a:close/>
              </a:path>
              <a:path fill="darkenLess" w="21600" h="24304">
                <a:moveTo>
                  <a:pt x="21600" y="24304"/>
                </a:moveTo>
                <a:lnTo>
                  <a:pt x="0" y="24304"/>
                </a:lnTo>
                <a:lnTo>
                  <a:pt x="1400" y="22904"/>
                </a:lnTo>
                <a:lnTo>
                  <a:pt x="20200" y="22904"/>
                </a:lnTo>
                <a:close/>
              </a:path>
              <a:path fill="lighten" w="21600" h="24304">
                <a:moveTo>
                  <a:pt x="0" y="243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4"/>
                </a:lnTo>
                <a:close/>
              </a:path>
              <a:path fill="darken" w="21600" h="24304">
                <a:moveTo>
                  <a:pt x="3794" y="5146"/>
                </a:moveTo>
                <a:lnTo>
                  <a:pt x="17806" y="12152"/>
                </a:lnTo>
                <a:lnTo>
                  <a:pt x="3794" y="1915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95680" y="0"/>
            <a:ext cx="76320" cy="6858000"/>
          </a:xfrm>
          <a:prstGeom prst="line">
            <a:avLst/>
          </a:prstGeom>
          <a:ln w="29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0"/>
            <a:ext cx="2057400" cy="1523880"/>
          </a:xfrm>
          <a:prstGeom prst="cloudCallout">
            <a:avLst>
              <a:gd name="adj1" fmla="val 58412"/>
              <a:gd name="adj2" fmla="val 28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7640" y="304920"/>
            <a:ext cx="179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I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Why I’m S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3048120" y="548640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3" h="21600">
                <a:moveTo>
                  <a:pt x="5335" y="3794"/>
                </a:moveTo>
                <a:lnTo>
                  <a:pt x="19348" y="10800"/>
                </a:lnTo>
                <a:lnTo>
                  <a:pt x="5335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15000" cy="4114800"/>
          </a:xfrm>
          <a:prstGeom prst="rect">
            <a:avLst/>
          </a:prstGeom>
          <a:ln w="206280">
            <a:solidFill>
              <a:srgbClr val="33cc33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334120" y="1447920"/>
            <a:ext cx="1828800" cy="761760"/>
          </a:xfrm>
          <a:prstGeom prst="wedgeRoundRectCallout">
            <a:avLst>
              <a:gd name="adj1" fmla="val -80902"/>
              <a:gd name="adj2" fmla="val 1445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1880" y="158256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Woo Hoo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457200" y="5638680"/>
            <a:ext cx="990720" cy="106704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067040"/>
              <a:gd name="textAreaBottom" fmla="*/ 1002960 h 1067040"/>
            </a:gdLst>
            <a:ahLst/>
            <a:rect l="textAreaLeft" t="textAreaTop" r="textAreaRight" b="textAreaBottom"/>
            <a:pathLst>
              <a:path w="21600" h="23263">
                <a:moveTo>
                  <a:pt x="0" y="0"/>
                </a:moveTo>
                <a:lnTo>
                  <a:pt x="21600" y="0"/>
                </a:lnTo>
                <a:lnTo>
                  <a:pt x="21600" y="23263"/>
                </a:lnTo>
                <a:lnTo>
                  <a:pt x="0" y="23263"/>
                </a:lnTo>
                <a:close/>
              </a:path>
              <a:path fill="lightenLess" w="21600" h="232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3">
                <a:moveTo>
                  <a:pt x="21600" y="0"/>
                </a:moveTo>
                <a:lnTo>
                  <a:pt x="21600" y="23263"/>
                </a:lnTo>
                <a:lnTo>
                  <a:pt x="20200" y="21863"/>
                </a:lnTo>
                <a:lnTo>
                  <a:pt x="20200" y="1400"/>
                </a:lnTo>
                <a:close/>
              </a:path>
              <a:path fill="darkenLess" w="21600" h="23263">
                <a:moveTo>
                  <a:pt x="21600" y="23263"/>
                </a:moveTo>
                <a:lnTo>
                  <a:pt x="0" y="23263"/>
                </a:lnTo>
                <a:lnTo>
                  <a:pt x="1400" y="21863"/>
                </a:lnTo>
                <a:lnTo>
                  <a:pt x="20200" y="21863"/>
                </a:lnTo>
                <a:close/>
              </a:path>
              <a:path fill="lighten" w="21600" h="23263">
                <a:moveTo>
                  <a:pt x="0" y="232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3"/>
                </a:lnTo>
                <a:close/>
              </a:path>
              <a:path fill="darken" w="21600" h="23263">
                <a:moveTo>
                  <a:pt x="7301" y="11632"/>
                </a:moveTo>
                <a:lnTo>
                  <a:pt x="17806" y="4625"/>
                </a:lnTo>
                <a:lnTo>
                  <a:pt x="17806" y="18638"/>
                </a:lnTo>
                <a:close/>
              </a:path>
              <a:path fill="darken" w="21600" h="23263">
                <a:moveTo>
                  <a:pt x="3794" y="4625"/>
                </a:moveTo>
                <a:lnTo>
                  <a:pt x="5456" y="4625"/>
                </a:lnTo>
                <a:lnTo>
                  <a:pt x="5456" y="18638"/>
                </a:lnTo>
                <a:lnTo>
                  <a:pt x="3794" y="18638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22:09Z</dcterms:created>
  <dc:creator>809277</dc:creator>
  <dc:description/>
  <dc:language>en-US</dc:language>
  <cp:lastModifiedBy>809277</cp:lastModifiedBy>
  <dcterms:modified xsi:type="dcterms:W3CDTF">2009-03-30T16:07:25Z</dcterms:modified>
  <cp:revision>3</cp:revision>
  <dc:subject/>
  <dc:title>Slide 1</dc:title>
</cp:coreProperties>
</file>